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12C6-1DEF-48FC-9FE8-6D5708B0B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2773-7221-47E3-A627-DB9AB36A3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AEA8-2149-490A-844A-09475EE41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2F8D-D01D-4D7C-AEC0-B47430356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A6E7-184F-48F2-BF2A-D9404B9DA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F7E2-435B-4254-959F-3D007B2B2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1E04-0FA3-4356-A717-C1E793486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92D2-CEB1-4DC0-9A21-20CB5327D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D839-7983-46AD-9404-415387763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AE20-701F-4EDF-8525-B6E9ED7D6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7E96-9774-4125-A47E-371F1D50E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8321-DD9B-4244-92B1-863A1D2E2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DC74F-D785-4087-9500-58E96EA150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4562280" cy="55339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4392720" y="907920"/>
            <a:ext cx="4751280" cy="38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79280" y="333360"/>
            <a:ext cx="4600800" cy="61819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284720" y="1125360"/>
            <a:ext cx="4859280" cy="40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4T11:30:32Z</dcterms:created>
  <dc:creator>01690112</dc:creator>
  <dc:description/>
  <dc:language>en-US</dc:language>
  <cp:lastModifiedBy>01690112</cp:lastModifiedBy>
  <dcterms:modified xsi:type="dcterms:W3CDTF">2009-07-14T11:33:08Z</dcterms:modified>
  <cp:revision>1</cp:revision>
  <dc:subject/>
  <dc:title>Slide 1</dc:title>
</cp:coreProperties>
</file>